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3D5-AF13-4B5B-B08B-761CCF07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4CF-1923-4531-BCF6-443D7D0D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1E4A-EF5E-4166-AF3F-FF337ADC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D2C-A7F3-4F6F-9BE1-E65D495A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3596-8E62-4113-BB8E-4A926C08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8706-D520-4AD3-AB0A-D941A23D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BFF1-94E7-42A1-9B29-DF2C5667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22FD-D721-417B-A63F-5044AC31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28F3-4F22-4E5D-9B4C-A3C3A33D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A06F-8EEA-4771-A7F9-F14994D3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BCFB-81C5-4A6B-800A-9F7BAFEA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4A4-4FE0-43A5-B46B-80512BDD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3D31-7B83-47C2-9537-9631AA39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7654-991D-4745-85C7-6CF74DAA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7186-FC8E-41DF-8BD9-25762793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F80A-4BB3-43D9-95B4-F2CFF9EB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1C58-6FDA-4A9C-933D-0B70D3E1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33C-E6D4-40A0-923D-1EA96FF3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3E1-193A-4A27-BD7E-57F1934C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4E0-57FF-487A-B346-882A94FE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03C0-18BC-4287-9667-F06E2675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754-3E15-46EE-B99A-BDE381E0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3D5-F282-4E53-B9C0-BA7F1D44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FA82-16A4-4872-8FF4-4DBBC82F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78A4-C1C1-4E6B-966E-0B245C1E7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C800-190F-469F-8852-762D0A4CAF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Vocabulary Slideshow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LIDE your desk over adjacent to your partn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tch the picture provided with the CH 11 vocabulary that it symboli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RETALIAT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– to take revenge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496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BLATAN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– very obvious, unmistakable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03848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334120" cy="5486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2127960" y="380880"/>
            <a:ext cx="47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AU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very thin, skin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694040" cy="5486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143160" cy="38098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1670040" y="152280"/>
            <a:ext cx="538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AR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mixed up, jumbl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the point of con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dog_cheating_cat_school_test_hg_clr"/>
          <p:cNvPicPr/>
          <p:nvPr/>
        </p:nvPicPr>
        <p:blipFill>
          <a:blip r:embed="rId1"/>
          <a:stretch/>
        </p:blipFill>
        <p:spPr>
          <a:xfrm>
            <a:off x="1981080" y="1447920"/>
            <a:ext cx="4648320" cy="4647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756000" y="533520"/>
            <a:ext cx="81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LAGIAR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STEALING OTHERS’ 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400800" cy="51688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62120" y="304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46120" y="6172200"/>
            <a:ext cx="76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K, SORRY FOR POOPING ON YOUR BED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517760" y="228600"/>
            <a:ext cx="57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QUAL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 guilty feeling, remo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400800" cy="52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221760" y="457200"/>
            <a:ext cx="87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LO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OVERLY SELF- CONFIDENT, BO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1447920" y="3504960"/>
            <a:ext cx="1295280" cy="759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BLIGH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– something that harms, hurt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0" y="1752480"/>
            <a:ext cx="4572000" cy="4419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4267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CONTRIV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– to think up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4100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IMMACULAT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– spotless, super clean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1992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9:18:36Z</dcterms:created>
  <dc:creator>El Cajon Valley High School</dc:creator>
  <dc:description/>
  <dc:language>en-US</dc:language>
  <cp:lastModifiedBy>Mcadwell</cp:lastModifiedBy>
  <dcterms:modified xsi:type="dcterms:W3CDTF">2012-04-09T16:29:13Z</dcterms:modified>
  <cp:revision>5</cp:revision>
  <dc:subject/>
  <dc:title>Vocabulary Slidesh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ccReLs4yfeen_okYUrp0XlK3tjl7Ss6aq3ud9Fcvfh4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RevisionId">
    <vt:lpwstr>14657418115297938488</vt:lpwstr>
  </property>
  <property fmtid="{D5CDD505-2E9C-101B-9397-08002B2CF9AE}" pid="6" name="Google.Documents.Tracking">
    <vt:lpwstr>true</vt:lpwstr>
  </property>
</Properties>
</file>